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C67-5CD7-4A2B-94F5-87D9AFB5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78A5-DD54-4CDF-AE98-521A6347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CBA6-45DA-42BA-B868-02585E62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E2AA-FF1F-4956-890B-42DE564F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B526-D1C0-45BB-83F1-D72505E9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D668-F013-454C-8DE7-E1E156A9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F85F-BFB6-4741-BE42-1608D5FC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7FB7-ADFB-4728-AB45-249FFCB5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59AA-E437-4D63-89E4-E45A54AB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26C0-F4B9-4865-A638-1D2379BF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1FB4-558D-4909-B6EF-E460BFE5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20B-861A-407E-B9CA-C5B406E4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6357-0443-4CDE-A7C1-E75F732E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E769-1E38-47A2-897B-F290F814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FF17-E008-488D-8A89-8B504509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F740-B5CB-4DF4-A7E5-78F18162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513D-D83B-4D1A-81B3-83734799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DE4F-3229-4516-8ADF-C2C79D8C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481B-6126-4F2B-BDF4-13D3A3BF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73A-8586-498C-88B9-613D4ECD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063-27F8-48ED-8B49-34D06B36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7D40-F593-4B77-BE85-75C3E006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852-13A8-46F4-9039-B108AC32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F20-39C9-4F9C-9604-DE0C164D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1F41-D5F6-4077-BB22-C0B9E5E869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951A-7A53-44D8-9CAE-A7465E79CB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ms.hhs.gov/regulations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SNF PPS REFINEMENTS-   53 RUG-III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MS, November 21, 200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ery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,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F5F-6EC9-4AC5-96F5-65E39A7FFA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5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911-A0B3-4824-8A8A-889394A61C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: (section P1b [a, b, c]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5 days any combination of the 3 discip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524-B1EF-4387-B45C-0E710BE9B9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b,c] and P3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 minutes of therapy per week minimum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3 days any combination of the 3 discipline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or more nursing rehabilitation services received at least 15 minutes each for 6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CCE-376A-48F9-BDA4-C6D4CB2866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e there any changes to the MDS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have been no changes to the instructions for completing the MD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u will continue to complete as usu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39B-B080-4A26-AE12-DDF129E444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D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hanges to MDS ite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tion 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projection of therap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tin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high, medium, and low intensit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MRA requirement must be fulfilled when all therapy services are no longer provi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sident was previously assigned into a Rehabilitation Plus Extensive Services or Rehabilitation categ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skilled services continue to be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C15-2605-43AE-A769-5B21E60350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dministrative Presumption of Coverag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alifying hospital sta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et the level of care requirements of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</a:rPr>
              <a:t>4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CFR 409.3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p to and including the assessment reference date for the 5-day assess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signed to one of the RUGs as representing the required level of ca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EAA-C584-41C8-AFA9-4D2221B7BF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oups “Administrative Presumption” Appl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lies to the top 35 groups when correctly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beneficiary who classifies to any of the lower 18 RUG groups is not automatically classified as meeting the SNF level of care defini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F1A-C64D-4657-836A-C79EAD4441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op 35 RUG group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habilitation plus Extensive Service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ltra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y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dium Rehabilitation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w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tensive Servic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ecial Care; and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nically Complex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636C-3DCA-40C9-9EFA-45148E5F1F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Updat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 version of RAVEN, 5.20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gin using new software for ARDs of 11/22/05 and l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ll receive 2 RUGs categories on Final Validation Report from 11/22/05 – 1/13/06 =&gt; one will be 44-RUG category, one will be 53-RU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7EB-68D8-414C-91A4-99A876DAC4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RUG Refinement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tion 101 of The Medicare, Medicaid, SCHIP Balanced Budget Refinement Act of 1999 (BBR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orary add-ons for specified RUG grou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til 10/1/00 or the implementation of case-mix refinements to the SNF P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4FB-A0B2-4025-80F6-4AFF3860F4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 from October 1 to December 31, 2005 payment based on the 44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s January 1, 2006 and on payment based on the 53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956-622E-460A-8AF6-6E2490C21D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maximizing classification  contin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a beneficiary classifies into more than one RUG category, the group with the highest case mix index (CMI) will be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EC1-CAAF-4060-B250-56FDEEC5B0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ex Maximizing Classification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on meets criteria for assignment in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L (CMI = 4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B (CMI = 43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2 (CMI = 31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VL has highest CMI (46).  Therefore, the person will be assigned into RV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FCD-9773-4E62-B430-F932DD2BCD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-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mporary add-ons of 20% and 6.7%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main in effect 10/1 – 12/31/0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longer apply 1/1/0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IDS temporary add-on of 128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plies to both RUG classification syst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1A14-B43B-4CDF-B8A2-372384C248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im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HIPPS codes are for the nine new categories only, which correspond to nine new RU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changes to assessment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ims with one of the new nine RUG categories with dates of service prior to 1/1/06 will be rejec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36E-67C7-4E93-8051-97A018871F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3 RUG-III Case-Mix Classification System (44 RUGs plus 9 new 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ion of the M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umption” of Covera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upd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5C09-0CF4-4EDD-98CC-47A08286BA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Rehabilitation Plus Extensive Services:  RUX, RUL, RVX, RVL, RHX, RHL, RMX, RML, RL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habilita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C, RUB, RUA, RVC, RVB, RVA, RHC, RHB, RHA, RMC, RMB, RMA, RLB, R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ve Servic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3, SE2, SE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 Care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C, SSB, S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52C-9989-474A-9898-1376057035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 (con’t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ally Complex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C2, CC1, CB2, CB1, CA2, C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ired Cogni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B2, IB1, IA2, I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havior Problems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B2, BB1, BA2, B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 Physical Func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2, PE1, PD2, PD1, PC2, PC1, PB2, PB1, PA2, PA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F84D-C52C-45B2-889E-D8D9D44C60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 Requirements Necessary to Classify into Rehabilitation Plus Extensive Services Catego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L SC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SERVICES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HABILITATI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B49-C4D2-405D-BA1A-C6F9BD9AE7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L Sco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L score must be 7 or hig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requirement is consistent with the  existing requirement for classification into Extensiv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306-126A-41E0-833E-B16F071A49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ensive Services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ident must be coded for receiv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more of the following extensive servi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5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enteral / I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V Med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tio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j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heostomy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tilator or respi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E0E-A24F-45A3-B958-66C04A0750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ltra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2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,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nd discipline 3 days/week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680E-CEDD-470A-A864-9E63B895E8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7:28:31Z</dcterms:created>
  <dc:creator>CMS</dc:creator>
  <dc:description/>
  <dc:language>en-US</dc:language>
  <cp:lastModifiedBy>CMS</cp:lastModifiedBy>
  <dcterms:modified xsi:type="dcterms:W3CDTF">2005-11-16T14:06:51Z</dcterms:modified>
  <cp:revision>16</cp:revision>
  <dc:subject/>
  <dc:title>SNF PPS REFINE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39374035</vt:r8>
  </property>
  <property fmtid="{D5CDD505-2E9C-101B-9397-08002B2CF9AE}" pid="3" name="_AuthorEmail">
    <vt:lpwstr>Ellen.Gay@cms.hhs.gov</vt:lpwstr>
  </property>
  <property fmtid="{D5CDD505-2E9C-101B-9397-08002B2CF9AE}" pid="4" name="_AuthorEmailDisplayName">
    <vt:lpwstr>Gay, Ellen M.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